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EFC1-5481-4006-9771-530E4B84D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o is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an Hatfield and Ken Pinzk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514600" y="1087560"/>
            <a:ext cx="4714560" cy="5236200"/>
            <a:chOff x="2514600" y="1087560"/>
            <a:chExt cx="4714560" cy="5236200"/>
          </a:xfrm>
        </p:grpSpPr>
        <p:sp>
          <p:nvSpPr>
            <p:cNvPr id="86" name=""/>
            <p:cNvSpPr/>
            <p:nvPr/>
          </p:nvSpPr>
          <p:spPr>
            <a:xfrm>
              <a:off x="3098520" y="5243040"/>
              <a:ext cx="3362040" cy="1080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2514600" y="1087560"/>
              <a:ext cx="4714560" cy="47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1295280"/>
            <a:ext cx="71247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Bright"/>
              </a:rPr>
              <a:t>Prentice</a:t>
            </a:r>
            <a:r>
              <a:rPr b="0" i="1" lang="en-US" sz="4800" spc="-1" strike="noStrike">
                <a:solidFill>
                  <a:srgbClr val="000000"/>
                </a:solidFill>
                <a:latin typeface="Lucida Bright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Lucida Bright"/>
              </a:rPr>
              <a:t>Hall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EARTH SCIENC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28480" y="51814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arbuc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utge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1120" y="53481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105520" y="-360"/>
            <a:ext cx="4068360" cy="3305160"/>
            <a:chOff x="5105520" y="-360"/>
            <a:chExt cx="4068360" cy="3305160"/>
          </a:xfrm>
        </p:grpSpPr>
        <p:sp>
          <p:nvSpPr>
            <p:cNvPr id="92" name=""/>
            <p:cNvSpPr/>
            <p:nvPr/>
          </p:nvSpPr>
          <p:spPr>
            <a:xfrm rot="10800000">
              <a:off x="5119200" y="-360"/>
              <a:ext cx="4054680" cy="3305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5105520" y="14040"/>
              <a:ext cx="4054320" cy="134280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8"/>
                </a:gs>
                <a:gs pos="100000">
                  <a:srgbClr val="fe3d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546360"/>
            <a:ext cx="4054320" cy="3311640"/>
            <a:chOff x="0" y="3546360"/>
            <a:chExt cx="4054320" cy="3311640"/>
          </a:xfrm>
        </p:grpSpPr>
        <p:sp>
          <p:nvSpPr>
            <p:cNvPr id="95" name=""/>
            <p:cNvSpPr/>
            <p:nvPr/>
          </p:nvSpPr>
          <p:spPr>
            <a:xfrm>
              <a:off x="0" y="3546360"/>
              <a:ext cx="4054320" cy="3305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514840"/>
              <a:ext cx="4054320" cy="1343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3d43"/>
                </a:gs>
                <a:gs pos="100000">
                  <a:srgbClr val="ff0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05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07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10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ndwana and th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inental Landm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1681200"/>
            <a:ext cx="8229600" cy="4781520"/>
            <a:chOff x="457200" y="1681200"/>
            <a:chExt cx="8229600" cy="4781520"/>
          </a:xfrm>
        </p:grpSpPr>
        <p:sp>
          <p:nvSpPr>
            <p:cNvPr id="214" name=""/>
            <p:cNvSpPr/>
            <p:nvPr/>
          </p:nvSpPr>
          <p:spPr>
            <a:xfrm>
              <a:off x="457200" y="1681200"/>
              <a:ext cx="8229600" cy="478152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822240" y="2197080"/>
              <a:ext cx="7499520" cy="374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217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218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009800" y="1638360"/>
                <a:ext cx="3161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Early Paleozoic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221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d600"/>
                </a:solidFill>
                <a:latin typeface="Arial"/>
                <a:ea typeface="Times New Roman"/>
              </a:rPr>
              <a:t>13.2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  <a:ea typeface="Times New Roman"/>
              </a:rPr>
              <a:t>  Paleozoic Era: Life Explodes   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rly Paleozoic Li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736640" y="2654280"/>
            <a:ext cx="70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fe in early Paleozoic time was restricted to the s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32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37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fe in the Ordovician Peri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523880"/>
            <a:ext cx="8229600" cy="5105520"/>
            <a:chOff x="457200" y="1523880"/>
            <a:chExt cx="8229600" cy="5105520"/>
          </a:xfrm>
        </p:grpSpPr>
        <p:sp>
          <p:nvSpPr>
            <p:cNvPr id="241" name=""/>
            <p:cNvSpPr/>
            <p:nvPr/>
          </p:nvSpPr>
          <p:spPr>
            <a:xfrm>
              <a:off x="457200" y="1523880"/>
              <a:ext cx="8229600" cy="510552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1273320" y="2232000"/>
              <a:ext cx="6597360" cy="368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244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245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009800" y="1638360"/>
                <a:ext cx="300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Late Paleozoic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248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d600"/>
                </a:solidFill>
                <a:latin typeface="Arial"/>
                <a:ea typeface="Times New Roman"/>
              </a:rPr>
              <a:t>13.2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  <a:ea typeface="Times New Roman"/>
              </a:rPr>
              <a:t> Paleozoic Era: Life Explodes   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te Paleozoic His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736640" y="2654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uras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continental mass that formed the northern portion of Pangaea, consisting of present-day North America and Euras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736640" y="377820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the end of the Paleozoic, all the continents had fused into the supercontinent of Panga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60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te Paleozoic Plate Mov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309760" y="1523880"/>
            <a:ext cx="4524480" cy="5105520"/>
            <a:chOff x="2309760" y="1523880"/>
            <a:chExt cx="4524480" cy="5105520"/>
          </a:xfrm>
        </p:grpSpPr>
        <p:sp>
          <p:nvSpPr>
            <p:cNvPr id="269" name=""/>
            <p:cNvSpPr/>
            <p:nvPr/>
          </p:nvSpPr>
          <p:spPr>
            <a:xfrm>
              <a:off x="2309760" y="1523880"/>
              <a:ext cx="4524480" cy="5105520"/>
            </a:xfrm>
            <a:custGeom>
              <a:avLst/>
              <a:gdLst>
                <a:gd name="textAreaLeft" fmla="*/ 179280 w 4524480"/>
                <a:gd name="textAreaRight" fmla="*/ 4345200 w 4524480"/>
                <a:gd name="textAreaTop" fmla="*/ 179280 h 5105520"/>
                <a:gd name="textAreaBottom" fmla="*/ 4926240 h 5105520"/>
              </a:gdLst>
              <a:ahLst/>
              <a:rect l="textAreaLeft" t="textAreaTop" r="textAreaRight" b="textAreaBottom"/>
              <a:pathLst>
                <a:path w="21600" h="24374">
                  <a:moveTo>
                    <a:pt x="2922" y="0"/>
                  </a:moveTo>
                  <a:arcTo wR="2922" hR="2922" stAng="16200000" swAng="-5400000"/>
                  <a:lnTo>
                    <a:pt x="0" y="21452"/>
                  </a:lnTo>
                  <a:arcTo wR="2922" hR="2922" stAng="10800000" swAng="-5400000"/>
                  <a:lnTo>
                    <a:pt x="18678" y="24374"/>
                  </a:lnTo>
                  <a:arcTo wR="2922" hR="2922" stAng="5400000" swAng="-5400000"/>
                  <a:lnTo>
                    <a:pt x="21600" y="2922"/>
                  </a:lnTo>
                  <a:arcTo wR="2922" hR="2922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2852640" y="1784520"/>
              <a:ext cx="3440160" cy="458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272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273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09800" y="1638360"/>
                <a:ext cx="300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Late Paleozoic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276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d600"/>
                </a:solidFill>
                <a:latin typeface="Arial"/>
                <a:ea typeface="Times New Roman"/>
              </a:rPr>
              <a:t>13.2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  <a:ea typeface="Times New Roman"/>
              </a:rPr>
              <a:t> Paleozoic Era: Life Explodes   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te Paleozoic Li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1736640" y="2630520"/>
            <a:ext cx="68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400 million years ago, plants that had adapted to survive at the water’s edge began to move inland, becoming land pl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736640" y="377820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phibians rapidly diversified because they had minimal competition from other land dwell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88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93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mor-Plated Fi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1951200"/>
            <a:ext cx="8229600" cy="4089240"/>
            <a:chOff x="457200" y="1951200"/>
            <a:chExt cx="8229600" cy="4089240"/>
          </a:xfrm>
        </p:grpSpPr>
        <p:sp>
          <p:nvSpPr>
            <p:cNvPr id="297" name=""/>
            <p:cNvSpPr/>
            <p:nvPr/>
          </p:nvSpPr>
          <p:spPr>
            <a:xfrm>
              <a:off x="457200" y="1951200"/>
              <a:ext cx="8229600" cy="408924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808200" y="2381400"/>
              <a:ext cx="7527600" cy="322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300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02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05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3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el of a Pennsylvania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al Swam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23880" y="2023920"/>
            <a:ext cx="7894800" cy="4113360"/>
            <a:chOff x="623880" y="2023920"/>
            <a:chExt cx="7894800" cy="4113360"/>
          </a:xfrm>
        </p:grpSpPr>
        <p:sp>
          <p:nvSpPr>
            <p:cNvPr id="309" name=""/>
            <p:cNvSpPr/>
            <p:nvPr/>
          </p:nvSpPr>
          <p:spPr>
            <a:xfrm>
              <a:off x="623880" y="2023920"/>
              <a:ext cx="7894800" cy="411336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071720" y="2473200"/>
              <a:ext cx="7000560" cy="321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312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313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0160" y="1638360"/>
                <a:ext cx="6142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Great Paleozoic Extinction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316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d600"/>
                </a:solidFill>
                <a:latin typeface="Arial"/>
                <a:ea typeface="Times New Roman"/>
              </a:rPr>
              <a:t>13.2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  <a:ea typeface="Times New Roman"/>
              </a:rPr>
              <a:t>  Paleozoic Era: Life Explodes   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2151000"/>
            <a:ext cx="76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world’s climate became very seasonal, probably causing the dramatic extinction of many speci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1260360" y="3446640"/>
            <a:ext cx="76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te Paleozoic extinction was the greatest of at least five mass extinctions to occur over the past 500 million year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327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328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09800" y="1638360"/>
                <a:ext cx="2777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esozoic Era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331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d600"/>
                </a:solidFill>
                <a:latin typeface="Arial"/>
                <a:ea typeface="Times New Roman"/>
              </a:rPr>
              <a:t>13.3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Mesozoic Era: Age of Reptiles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60360" y="2151000"/>
            <a:ext cx="763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nosa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ere land-dwelling reptiles that thrived during the Mesozoic er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1260360" y="308448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sozoic His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736640" y="3589200"/>
            <a:ext cx="73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major event of the Mesozoic era was the breakup of Panga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d00c0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1600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96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93024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arth’s History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343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344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009800" y="1638360"/>
                <a:ext cx="2777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esozoic Era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347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54" name=""/>
          <p:cNvSpPr/>
          <p:nvPr/>
        </p:nvSpPr>
        <p:spPr>
          <a:xfrm>
            <a:off x="1260360" y="217656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sozoic Lif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d600"/>
                </a:solidFill>
                <a:latin typeface="Arial"/>
                <a:ea typeface="Times New Roman"/>
              </a:rPr>
              <a:t>13.3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Mesozoic Era: Age of Reptiles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36640" y="2641680"/>
            <a:ext cx="70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ymnosp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ed-bearing plants that do not depend on free-standing water for fertil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1736640" y="3778200"/>
            <a:ext cx="70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gymnosperms quickly became the dominant plants of the Mesozoic 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359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64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3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nadian Rockies Were Formed Throughout the Cretaceous Peri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57200" y="2023920"/>
            <a:ext cx="8229600" cy="4181760"/>
            <a:chOff x="457200" y="2023920"/>
            <a:chExt cx="8229600" cy="4181760"/>
          </a:xfrm>
        </p:grpSpPr>
        <p:sp>
          <p:nvSpPr>
            <p:cNvPr id="368" name=""/>
            <p:cNvSpPr/>
            <p:nvPr/>
          </p:nvSpPr>
          <p:spPr>
            <a:xfrm>
              <a:off x="457200" y="2023920"/>
              <a:ext cx="8229600" cy="418176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69" name="" descr=""/>
            <p:cNvPicPr/>
            <p:nvPr/>
          </p:nvPicPr>
          <p:blipFill>
            <a:blip r:embed="rId1"/>
            <a:stretch/>
          </p:blipFill>
          <p:spPr>
            <a:xfrm>
              <a:off x="1093680" y="2644920"/>
              <a:ext cx="6954840" cy="293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371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372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009800" y="1638360"/>
                <a:ext cx="2777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esozoic Era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375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82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helled Eg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d600"/>
                </a:solidFill>
                <a:latin typeface="Arial"/>
                <a:ea typeface="Times New Roman"/>
              </a:rPr>
              <a:t>13.3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Mesozoic Era: Age of Reptiles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36640" y="2631960"/>
            <a:ext cx="70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like amphibians, reptiles have shell-covered eggs that can be laid on the la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736640" y="3402000"/>
            <a:ext cx="70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limination of a water-dwelling stage (like the tadpole stage in frogs) was an important evolutionary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387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388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009800" y="1638360"/>
                <a:ext cx="2777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esozoic Era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391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98" name=""/>
          <p:cNvSpPr/>
          <p:nvPr/>
        </p:nvSpPr>
        <p:spPr>
          <a:xfrm>
            <a:off x="1260360" y="217656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ptiles Do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d600"/>
                </a:solidFill>
                <a:latin typeface="Arial"/>
                <a:ea typeface="Times New Roman"/>
              </a:rPr>
              <a:t>13.3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Mesozoic Era: Age of Reptiles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736640" y="2652840"/>
            <a:ext cx="70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th the perfection of the shelled egg, reptiles quickly became the dominant land anim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1736640" y="3432240"/>
            <a:ext cx="70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 the end of the Mesozoic era, many reptile groups became extin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03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08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Flying Reptile Pteranod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623960" y="1523880"/>
            <a:ext cx="5896080" cy="5105520"/>
            <a:chOff x="1623960" y="1523880"/>
            <a:chExt cx="5896080" cy="5105520"/>
          </a:xfrm>
        </p:grpSpPr>
        <p:sp>
          <p:nvSpPr>
            <p:cNvPr id="412" name=""/>
            <p:cNvSpPr/>
            <p:nvPr/>
          </p:nvSpPr>
          <p:spPr>
            <a:xfrm>
              <a:off x="1623960" y="1523880"/>
              <a:ext cx="5896080" cy="510552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1"/>
            <a:stretch/>
          </p:blipFill>
          <p:spPr>
            <a:xfrm>
              <a:off x="2085840" y="1924200"/>
              <a:ext cx="4970520" cy="430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15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20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Fossil Skull of an Extinct Crocod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419200" y="2062080"/>
            <a:ext cx="4303800" cy="4111560"/>
            <a:chOff x="2419200" y="2062080"/>
            <a:chExt cx="4303800" cy="4111560"/>
          </a:xfrm>
        </p:grpSpPr>
        <p:sp>
          <p:nvSpPr>
            <p:cNvPr id="424" name=""/>
            <p:cNvSpPr/>
            <p:nvPr/>
          </p:nvSpPr>
          <p:spPr>
            <a:xfrm>
              <a:off x="2419200" y="2062080"/>
              <a:ext cx="4303800" cy="411156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25" name="" descr=""/>
            <p:cNvPicPr/>
            <p:nvPr/>
          </p:nvPicPr>
          <p:blipFill>
            <a:blip r:embed="rId1"/>
            <a:stretch/>
          </p:blipFill>
          <p:spPr>
            <a:xfrm>
              <a:off x="2959200" y="2538360"/>
              <a:ext cx="3224160" cy="315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427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428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008720" y="1638360"/>
                <a:ext cx="490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Cenozoic North America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431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38" name=""/>
          <p:cNvSpPr/>
          <p:nvPr/>
        </p:nvSpPr>
        <p:spPr>
          <a:xfrm>
            <a:off x="1260360" y="2151000"/>
            <a:ext cx="75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Cenozoic era is divided into two periods of very unequal duration, the Tertiary period and the Quaternary peri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00"/>
                </a:solidFill>
                <a:latin typeface="Arial"/>
                <a:ea typeface="Times New Roman"/>
              </a:rPr>
              <a:t>13.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  <a:ea typeface="Times New Roman"/>
              </a:rPr>
              <a:t>Cenozoic Era: Age of Mammal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60360" y="3505320"/>
            <a:ext cx="75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te interactions during the Cenozoic era caused many events of mountain building, volcanism, and earthquakes in the W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442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443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09080" y="1638360"/>
                <a:ext cx="282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Cenozoic Life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446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47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53" name=""/>
          <p:cNvSpPr/>
          <p:nvPr/>
        </p:nvSpPr>
        <p:spPr>
          <a:xfrm>
            <a:off x="1260360" y="2163600"/>
            <a:ext cx="75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mm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—animals that bear live young and maintain a steady body temperature— replaced reptiles as the dominant land animals in the Cenozoic e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00"/>
                </a:solidFill>
                <a:latin typeface="Arial"/>
                <a:ea typeface="Times New Roman"/>
              </a:rPr>
              <a:t>13.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  <a:ea typeface="Times New Roman"/>
              </a:rPr>
              <a:t>Cenozoic Era: Age of Mammal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60360" y="3936960"/>
            <a:ext cx="75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iosp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flowering plants with covered seeds—replaced gymnosperms as the dominant land pl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457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458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09080" y="1638360"/>
                <a:ext cx="282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Cenozoic Life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461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68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mmals Replace Rept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00"/>
                </a:solidFill>
                <a:latin typeface="Arial"/>
                <a:ea typeface="Times New Roman"/>
              </a:rPr>
              <a:t>13.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  <a:ea typeface="Times New Roman"/>
              </a:rPr>
              <a:t>Cenozoic Era: Age of Mammal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736640" y="2654280"/>
            <a:ext cx="695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aptations like being warm blooded, developing insulating body hair, and having more efficient heart and lungs allow mammals to lead more active lives than rept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72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77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ssils from La Brea Tar P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308320" y="1903320"/>
            <a:ext cx="4593960" cy="4273200"/>
            <a:chOff x="2308320" y="1903320"/>
            <a:chExt cx="4593960" cy="4273200"/>
          </a:xfrm>
        </p:grpSpPr>
        <p:sp>
          <p:nvSpPr>
            <p:cNvPr id="481" name=""/>
            <p:cNvSpPr/>
            <p:nvPr/>
          </p:nvSpPr>
          <p:spPr>
            <a:xfrm>
              <a:off x="2308320" y="1903320"/>
              <a:ext cx="4593960" cy="427320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2527200" y="2136600"/>
              <a:ext cx="4155480" cy="380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101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102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09800" y="1638360"/>
                <a:ext cx="415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Precambrian Histor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05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600"/>
                </a:solidFill>
                <a:latin typeface="Arial"/>
                <a:ea typeface="Times New Roman"/>
              </a:rPr>
              <a:t>13.1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  Precambrian Time: Vast and Puzzling  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60360" y="2151000"/>
            <a:ext cx="7635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ecambrian encompasses immense geological time, from Earth’s distant beginnings 4.56 billion years ago until the start of the Cambrian period, over 4 billion years la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260360" y="429264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ecambrian R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4726080"/>
            <a:ext cx="73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iel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e large, relatively flat expanses of ancient metamorphic rock within the stable continental inter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736640" y="5826240"/>
            <a:ext cx="687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ch of what we know about Precambrian rocks comes from ores mined from sh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484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485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006920" y="1638360"/>
                <a:ext cx="282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Cenozoic Life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488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95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rge Mammals and Exti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00"/>
                </a:solidFill>
                <a:latin typeface="Arial"/>
                <a:ea typeface="Times New Roman"/>
              </a:rPr>
              <a:t>13.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  <a:ea typeface="Times New Roman"/>
              </a:rPr>
              <a:t>Cenozoic Era: Age of Mammal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36640" y="2666880"/>
            <a:ext cx="714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North America, the mastodon and mammoth, both huge relatives of the elephant, became extinct. In addition, saber-toothed cats, giant beavers, large ground sloths, horses, camels, giant bison, and others died out on the North American contin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1736640" y="4916520"/>
            <a:ext cx="714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ason for this recent wave of extinctions puzzles scient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118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123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ologic Time Sc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57320" y="1523880"/>
            <a:ext cx="5227560" cy="5105520"/>
            <a:chOff x="1957320" y="1523880"/>
            <a:chExt cx="5227560" cy="5105520"/>
          </a:xfrm>
        </p:grpSpPr>
        <p:sp>
          <p:nvSpPr>
            <p:cNvPr id="127" name=""/>
            <p:cNvSpPr/>
            <p:nvPr/>
          </p:nvSpPr>
          <p:spPr>
            <a:xfrm>
              <a:off x="1957320" y="1523880"/>
              <a:ext cx="5227560" cy="510552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635200" y="1739880"/>
              <a:ext cx="3871800" cy="467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130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135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570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mnants of Precambrian Ro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" y="1765440"/>
            <a:ext cx="8229600" cy="4597200"/>
            <a:chOff x="457200" y="1765440"/>
            <a:chExt cx="8229600" cy="4597200"/>
          </a:xfrm>
        </p:grpSpPr>
        <p:sp>
          <p:nvSpPr>
            <p:cNvPr id="139" name=""/>
            <p:cNvSpPr/>
            <p:nvPr/>
          </p:nvSpPr>
          <p:spPr>
            <a:xfrm>
              <a:off x="457200" y="1765440"/>
              <a:ext cx="8229600" cy="459720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736560" y="2292120"/>
              <a:ext cx="7670880" cy="354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142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143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09800" y="1638360"/>
                <a:ext cx="415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Precambrian Histor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46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600"/>
                </a:solidFill>
                <a:latin typeface="Arial"/>
                <a:ea typeface="Times New Roman"/>
              </a:rPr>
              <a:t>13.1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 Precambrian Time: Vast and Puzzling  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Atmosphere Evol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736640" y="2643120"/>
            <a:ext cx="717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original atmosphere was made up of gases similar to those released in volcanic eruptions today—water vapor, carbon dioxide, nitrogen, and several trace gases, but no oxyg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36640" y="4168800"/>
            <a:ext cx="71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ter, primary plants evolved that used photosynthesis and released oxyg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736640" y="4962600"/>
            <a:ext cx="71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 began to accumulate in the atmosphere about 2.5 billion years a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159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160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09800" y="1638360"/>
                <a:ext cx="415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Precambrian Histor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63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600"/>
                </a:solidFill>
                <a:latin typeface="Arial"/>
                <a:ea typeface="Times New Roman"/>
              </a:rPr>
              <a:t>13.1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 Precambrian Time: Vast and Puzzling  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ecambrian Foss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736640" y="2643120"/>
            <a:ext cx="70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st common Precambrian fossils are stromatoli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736640" y="3438360"/>
            <a:ext cx="708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omatoli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re distinctively layered mounds or columns of calcium carbonate. They are not the remains of actual organisms but are the material deposited by alga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736640" y="4962600"/>
            <a:ext cx="70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of these ancient fossils are preserved in chert—a hard dense chemical sedimentary roc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176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177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09800" y="1638360"/>
                <a:ext cx="3161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Early Paleozoic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80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d600"/>
                </a:solidFill>
                <a:latin typeface="Arial"/>
                <a:ea typeface="Times New Roman"/>
              </a:rPr>
              <a:t>13.2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  <a:ea typeface="Times New Roman"/>
              </a:rPr>
              <a:t> Paleozoic Era: Life Explodes   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60360" y="2151000"/>
            <a:ext cx="7635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llowing the long Precambrian, the most recent 540 million years of Earth’s history are divided into three eras: Paleozoic, Mesozoic, and Cenozo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190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191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09800" y="1638360"/>
                <a:ext cx="3161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Early Paleozoic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94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d600"/>
                </a:solidFill>
                <a:latin typeface="Arial"/>
                <a:ea typeface="Times New Roman"/>
              </a:rPr>
              <a:t>13.2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  <a:ea typeface="Times New Roman"/>
              </a:rPr>
              <a:t> Paleozoic Era: Life Explodes   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rly Paleozoic His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736640" y="2643120"/>
            <a:ext cx="703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the Cambrian, Ordovician, and Silurian periods, the vast southern continen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ndw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ncompassed five continents (South America, Africa, Australia, Antarctica, and part of Asi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0:31:17Z</dcterms:created>
  <dc:creator>Stan &amp; Cindy Hatfield</dc:creator>
  <dc:description/>
  <dc:language>en-US</dc:language>
  <cp:lastModifiedBy>Navta 12</cp:lastModifiedBy>
  <cp:lastPrinted>2004-09-17T19:36:04Z</cp:lastPrinted>
  <dcterms:modified xsi:type="dcterms:W3CDTF">2004-10-28T15:00:25Z</dcterms:modified>
  <cp:revision>649</cp:revision>
  <dc:subject/>
  <dc:title>Volcanoes and Igneous Activity  Earth  -  Chapter 4</dc:title>
</cp:coreProperties>
</file>